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08F-234D-46E8-9C7E-C652B756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C1F-A853-4523-AE11-2BBA9195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686-E8B8-4BE8-A43D-2E75C142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BA2-1390-461F-90CE-E7A9C3CA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D6F-90A9-4469-9CEE-CC77BD1C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651B-69A7-49DD-BEE7-48EF5F1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1892-09ED-418C-B603-8C894C7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CDE2-0679-4B67-8CEA-4F12C3E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0AA-4EEF-4942-8743-6248FF7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EB5-D4A8-4035-BA29-49B9C50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163-B9CD-45D0-B315-5C6DD0C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965-516D-4473-A081-DC56F719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E396-6436-453A-93EE-AF0146C6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EF84-41BA-4C16-B9EC-BFC0EC14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F45B-6AA9-4783-84CC-2BE13915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644-3490-42DC-AFB0-69F6EA86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A67-066C-437D-9159-85EC6D48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DA22-4815-42B8-AE58-C98A5001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7C72-58E9-40C2-9938-175E0D0F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3CF7-ABD3-4AE1-A4A4-453EB54B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8B59-FA3A-4CA2-B12F-346CEDC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143F-D9BD-4D27-97DB-B28806E0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CDC-3673-4AE3-80E9-50B748BD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7882-08E7-4D6D-BB2A-6ABB1B18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FA0E-C165-4AA4-9395-D787D4B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C85A-F785-4FCB-82B0-8DEC94A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C06B-096A-43E4-9734-CE67942A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0312-1439-4051-83A3-FC0C89B8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075C-2F3E-47E7-9706-B29A1001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1ED3-3E7F-42AC-9F3D-282A5BFC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0E37-2DDF-4964-99F4-82D03967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C1B8-B5F4-4519-9AE5-2E75D94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AFF2-CDC3-4617-A6A7-C4BFE203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3A1-EDA1-4868-89F1-07A3924E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9D52-3FBF-4C1A-9FB8-ECDDC04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E830-A27E-4731-AE91-24D30AA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0FDF-4F98-4A15-8D38-9B9355F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E5FB-A015-4401-9D09-44D2C70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FBBA-4F4E-49B6-A1FD-4772627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B711-8547-4F1D-B9D7-A4AC0F6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304E-652B-4501-812A-3372C0A5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11C4-55BE-41C5-8F5E-3E45B205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76753-B4EB-4703-97B3-F39F8357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803F-68C6-43B9-AD98-C816FFA8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878-A4F1-4CEC-B192-1B3397F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0F18-BCAC-40C7-BCEC-8A30B83B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6587-6350-41C7-A2C3-87099333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E59A-4F7D-4306-B411-45A95462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8912D-B04C-45DB-8DA0-C69DC927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EE8D-8671-4E5B-9D8B-040B371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F208C-0C83-4D26-B378-A2FF593B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04F4-68C3-4AAC-98FE-5465F4B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7E1F-8EE6-4DF6-9FC4-F84CFFF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9220-A3A1-4C16-A76C-C3B09BAF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BBA9-DCBB-4482-89CD-B0C9F588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1A2-FD1D-4B10-BDE8-8AC8E34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46841-485E-42B3-AF8B-3E7D5D76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AEF71-09CE-4A5C-A4E6-F9C6AF45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0DA4-CCED-49F6-A9AA-22411A16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D4EC3-21D0-4934-A031-3A296316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E780-7360-405B-A44A-554475F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894D-3E94-4BD6-A6A4-E4EA021E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D81F-D9E0-4397-A695-D45FA75F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C60A9-C436-4FE0-A1AF-2977D97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0AFC-6972-4DA0-8124-25150C8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2B8BE-1B73-4E94-BEBF-03157F7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07C-37EF-4094-AA66-43395F66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6D05-840D-427F-AB46-CF92154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D159-2F0E-4F75-ACBA-30E1ACA2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0695-5BEB-4794-9529-C454CB75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A26D-21A9-4375-8798-8D03CA82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2D01-8E68-4483-9F07-1C4E7A6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09D8-CA02-4E09-9877-3B100D4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AFF4-E265-40DC-A16D-942A4F8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7940-4A9C-483F-A61D-681F759D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0436-2B28-4A36-9D9E-C589DD40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F102E-B884-4558-A476-5728E54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AF7-7CA7-4AE8-8BC0-BA92281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69703-99CC-4030-96B6-0C7313D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67F0-2368-4D9B-A879-F06C739D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11A5-3A5F-4D24-804A-8B4DCBE6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242D-8CB2-4BE8-A300-088550D6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61CD-06BA-4252-82D1-EB50A252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3A2-6470-4DF1-8C0B-5C42045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E0692-4510-4609-9BA1-ECF1D782F34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73960-ED3A-415F-ABD3-7D780C70869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57529-73F3-4368-9E2B-CE24E6CBB5F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459BF-A158-41A1-AC35-CE5A202F157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03D0C-068F-4497-875C-18CB241F59E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EF20E-958D-43B8-9B34-0E58CADF83B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A1F44-93A6-4FE4-ABB5-C34CD12468A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A8F0C-2C71-45E9-9B8A-BA21F6D357B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20031-8DE0-4D58-B445-0EAA3168B2C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F789D-FEDB-482C-8F27-2D91F7137D66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F24AE-5602-482B-B0BE-946579559C4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BA9DE-054F-44BE-A573-DA4DDD47994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07A0E-8EB1-4B37-91FA-9BF340960334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A452C-E1AB-4F68-B0EC-4DDF7D49CD7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90756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Referral of CKD to Nephrologist 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 Light"/>
              </a:rPr>
              <a:t>MODULE 3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DR. KONG WEI YEN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PUSAT PERUBATAN UNIVERSITI KEBANGSAAN MALAYSIA, KUALA LUMPU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DR. ILIZA IDRI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KLINIK KESIHATAN AMPANGAN, NEGERI SEMBILAN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E7691-D70B-4686-B8A4-5E5ED52BE58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6FB26-C68A-45B1-9E47-B914ED1FF70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4" descr=""/>
          <p:cNvPicPr/>
          <p:nvPr/>
        </p:nvPicPr>
        <p:blipFill>
          <a:blip r:embed="rId1"/>
          <a:stretch/>
        </p:blipFill>
        <p:spPr>
          <a:xfrm>
            <a:off x="809640" y="363600"/>
            <a:ext cx="75247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mmediate referr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KI superimposed on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wly detected ESR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ccelerated or malignant hyperten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fe-threatening hyperkal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uspected rapidly progressive glomerulonephriti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0F61E-639D-45BE-81E7-7AC75D4FFE6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linical ti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with CKD and renal outflow obstruction should be referred to urological servic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en referring to a nephrologist, ensure patient ha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ial blood chemistry and urine a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ferably a recent renal ultrasound repor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oH, Malaysia. Management of Chronic Kidney Disease in Adults. Putrajaya: MoH;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B3C3B-4DD6-4900-8A10-196B90413BA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Case scenario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041C5-5B64-407D-8B1F-8DBB415BECF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se scenario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5-year-old female has a creatinine level of 133 μmol/L (eGFR of 39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aseline creatinine level three years ago was     124 μmol/L (eGFR  43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24-hour urinary protein is 0.6 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P is 134/78 mmHg on single antihypertensive agent and is otherwise health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0DB72-C077-46A1-BA16-37F704E8CB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tage of CKD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,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AE832-980A-4CBF-8B3B-7605CD02F3E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Answ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tage? - CKD stage G3b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 to a nephrologist? - 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ly stable eGFR: expect decline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&lt;2 ml/min/1.73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risk of progression: mild proteinuria, good control of BP, single antihypertensive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monitored and managed in a primary care sett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C56B8-EE6B-4FC7-9AF8-B55A8FD859E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How to monitor in Klinik Kesihata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846080"/>
            <a:ext cx="78534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optimal BP contro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ppropriate antihypertensive agents i.e. ACEi/ARB and optimise dosage for proteinuria redu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style modifications: diet, weight management, quit smok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e patient to avoid nephrotoxic drug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RP/proteinuria regularly 3 - 6 month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for complications: FBC, CaPO4 6 - 12 month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BEDF6-1240-482D-A05B-267D0A5942A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cenario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5-year-old female has a creatinine level of 133 μmol/L (eGFR of 39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aseline creatinine level three years ago was 124 μmol/L (eGFR  43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24-hour urinary protein is 2.4 g (0.5 g 1 year ago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e is on three antihypertensive agents including perindopril 8 mg OD and her BP is 168/94 mmH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B714B-6EE4-4231-B4F4-5C4ECC43D5E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tage of CKD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,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1686A-1290-49D1-A4D4-AC7AFD637AC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indications and timing of referral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cognise the possibilities of AKI in primary care sett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llustrate the collaborations between nephrologists and primary care specialists in the management of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CAA32-43C7-40DE-B877-2147DE3855B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nsw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tage? - CKD stage G3b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 to a nephrologist? Y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 High risk of progression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(and increasing trend of) proteinu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ntrolled BP despite on 3 antihypertensive agents (including maximum dose of ACEi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 Referral to nephrologis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7008E-56D3-4E6B-956B-F970C880652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ferr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gency of the referr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n doubt, communicate with the nephrologist (e.g. if patient needs urgent attention for suspected RPGN, severe AKI superimposed on CKD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o do before referring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chemistry and urine a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ferably a recent renal ultrasound (but do not delay the referral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B0BA6-50DC-45B5-AEE3-C31CED2493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ferral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ared-care with effective communication between the nephrologist and primary healthcare provider is strongly encourage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rect consultation on indication and timing of referra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eedback on patients’ progress: update single book, suggestions/recommendations on medications and monitor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haring of the trend of blood resul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2D9E0-E911-4D90-AB66-3CC81A7098A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EFD2A-882F-4F4A-9405-FDD9415DCDA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KD has emerged as a global public health problem because of the increasing number of patients with CKD, risk of progression to end-stage renal disease (ESRD), and high morbidity and mortality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st CKD patients are seen in the primary care clinics during the early stages of thei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. Levey AS, et al. Kidney Int. 2007;72(3):247-59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8611E-8A53-40DD-A0D7-E28C9701B9C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t is important to identify which patients need to be referred for nephrology servic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of referral differs according to the suspected diagnosis of the kidney problem and its expected progres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wo way communication between primary care doctors and nephrologists is paramount in ensuring the best care for the patien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1B21D-285E-421F-86FC-F0B2B27F073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Why do we refer to nephrologis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ral to nephrologist is indicated when a healthcare provider feels that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dditional expert input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is required for patient’s managemen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aim may b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rule out acute kidney injury (AKI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delay CKD progress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prepare for renal replacement therapy (RR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688A4-E403-484F-A545-21CEF83A124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Why refer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ly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ferral to nephrologist has the benefit in reducing mortality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spital stay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, achieving hig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emoglobin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vels and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ter dialysis preparation compared with late referral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SR involving 27 studies and 17,646 participants, early referral was commonly defined as 3 months before commencing dialysis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64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NT to prevent 1 death at 12 months = 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Mean difference of hospital stay = 7.7 da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eritoneal dialysis uptake more common (OR=2.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ess temporary vascular access (OR=0.18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4. Smart NA, et al. Am J Med. 2011;124(11):1073-80.e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FA596-0F47-49BD-938C-E4B06E017C4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en to refer to nephrologis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is no clear evidence to recommend indications of referral to nephrologist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t is important to look at the trend of SCr and eGFR when deciding on the urgency of referral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optimal time depends on the aim of referral which must always be individualised, taking into consideration the patient’s co-morbidities, functional status and life expectanc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28A4E-E2E3-4EF7-B5BA-002CBF6FC22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can/does a nephrologist do when getting referred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846080"/>
            <a:ext cx="84312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specific treatment of the underlying renal condition (treat GN, etc.), which will delay, halt or even reverse the resulting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de whether patients need further investigations (imagings, renal biospy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RP, GFR and proteinuria measurements to guide treatm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pressure and proteinuria control with appropriate medications (treat to appropriate targe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and management of CKD complications (renal anaemia, CKD-Mineral Bone Disorder, metabolic acidosis, malnutrition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00830-5D18-485D-8F0A-1AAD52DC5CD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can/does a nephrologist do when getting referred?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patients with more advanced CKD, nephrologists ca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/intensify all treatments described abo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with patient/family to decide on the most suitable modality of RR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 appropriate dialysis access in a timely manner for the pati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timing of RRT initi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29421-65FE-49FE-958E-C0A92189A5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27:28Z</dcterms:modified>
  <cp:revision>161</cp:revision>
  <dc:subject/>
  <dc:title>SCREENING &amp; DIAGNOSIS</dc:title>
</cp:coreProperties>
</file>